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FFB-D579-4B38-A24D-10A869B8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544-349B-434E-8535-9992823D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7020-7220-4C6B-A43B-08BB7AA7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9A0-D6C5-4C6B-B5A8-16F5EF86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4545-D826-48DE-B789-EE6B32AC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2FBC-0C9B-4637-8522-E04A5352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B391-B1B0-4AF2-8C36-970A7DB9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60EC-5822-4823-A05B-F1A9EDFF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9A1D-6831-4752-A668-6BF5D690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453E-F12A-48AC-80A3-4020F52F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223A-FD5E-4701-8051-6A367A2A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1C5F-91FB-406A-8703-81A49C1A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376E-9C7B-4C69-B35F-033D5013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3968-68F5-4BDF-BC6B-DAAE90CE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1F3D-4FA3-4999-9DF3-AF961B9A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5C71-A8CE-4537-86FE-3355AA8C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AD24-DACD-4F65-AF01-8EAA6D46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729A-2D7F-4F4B-8628-95689A00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9EA-BD1C-4914-A43D-17FEBE32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7E80-F52A-4477-A8CF-181AF92D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2C3B-1CE3-4494-A7CC-FAC8A67C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80B8-A623-4A66-BEB7-D83CA3D7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BE0-D45B-4CB4-AFC5-46312BE4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6BC-EC03-4B94-94B7-944442F8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BCDF-2639-4D4E-B9AC-EE166E9C6C7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D704-7FD0-4D90-8798-A059C48F7D6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Presentations</a:t>
            </a:r>
            <a:br>
              <a:rPr sz="5100"/>
            </a:b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Making a start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roduc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Your name and position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title/subject of your presentation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purpose of the presentation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length of time you will take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main parts or points you will cover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y visual aids you will use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en the audience may ask questions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reference to the audience: a human touch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5494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*External presentation – customers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125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*Internal presentation – colleagues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06920" y="1125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*Internal presentation – bosses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06920" y="1557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*External presentation – suppliers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esentation Checkli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686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Have you considered the audience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Is your presentation well prepared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Is there a clear structure (beginning, middle, end)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Do you link the parts together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Is the content relevant and interestin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Have you considered the timing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Are you speaking clearl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Are you speaking at the right speed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Do you use appropriate language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Do you use your body to emphasise meaning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Do you maintain eye contact with the audience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Do you appear confident and positive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Are the visual aids clear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Do they support your message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Do you use the equipment professionally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9:10:42Z</dcterms:created>
  <dc:creator>qq</dc:creator>
  <dc:description/>
  <dc:language>en-US</dc:language>
  <cp:lastModifiedBy>Liz</cp:lastModifiedBy>
  <dcterms:modified xsi:type="dcterms:W3CDTF">2010-04-02T08:51:05Z</dcterms:modified>
  <cp:revision>13</cp:revision>
  <dc:subject/>
  <dc:title>Presentations</dc:title>
</cp:coreProperties>
</file>